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9BD6-DB63-46D2-AE7D-F180C610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AD7A-8F4F-4B06-B83F-6FB634F5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E47E-F5B7-46C6-910F-1AE3883A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C476-5F64-49D3-86EF-0A83F172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D90F-4D88-41FB-A81C-959D190C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C8B1-F71E-4146-93DF-D2B991FD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BF4B-1992-4CA0-9E77-A1B1D136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8355-4CA9-468B-B3F8-6AC46ED2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63DD-482C-4094-B910-DA17B9B3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F83E-1EE9-4940-819E-AC97AFAB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1333-7F7C-4F12-B323-CF877EA2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40D8-9513-4E36-A534-6672F94A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FE53-FEEF-4DF4-BD93-292FCDA1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8529-3959-4F62-A94E-DB8B8FA9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293B-8E5C-43B5-B2FB-ED83FB6F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3254-ED3E-4034-B645-EB5BA3E8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EEFB-88C4-4364-AA3C-B237F57E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549-2E1B-4595-9DF7-72924C90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360-048F-416C-A7D1-BB27972E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C8C5-D097-4437-95D2-0D105457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943D-0ED6-4E94-ACB8-3DA67E18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C890-ED47-455C-930E-BC09A154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8BB-74CF-4076-8F63-1F4AC8B0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2410-0DE1-4B3D-A3AC-8CA51A44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AF28-B3F7-49A9-9C5F-0B4DABAD5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E8C8-5CC5-49AF-9421-E7F01A718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TEL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4920" y="485280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perty Managem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13" descr="j0398393[1]"/>
          <p:cNvPicPr/>
          <p:nvPr/>
        </p:nvPicPr>
        <p:blipFill>
          <a:blip r:embed="rId1"/>
          <a:stretch/>
        </p:blipFill>
        <p:spPr>
          <a:xfrm>
            <a:off x="5410080" y="3051000"/>
            <a:ext cx="326556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uest Registration Menu (Cont…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2533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REQUIRED FIELD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MEANING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uest Nam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me of individual’s accou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rival D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e of check-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parture D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e of checko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res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ress of gu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one of gu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ervation Statu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ype of reservation/Status of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y (after check-i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om Numb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ual Room Assig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o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ype, configuration &amp; desig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om R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ual rate pai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om Statu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sts the current room statu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thod of Pay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sh, Credit Card, Direct Billing or Cheq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lling Metho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PO, SRT, SA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uest Loyalty #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quent stay program numbe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uest Registration Menu (Cont…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REQUIRED FIELD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MEANING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quent Flier #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irline incentive partnersh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cial Reques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rly/Late check-in/checkout, upgrad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ques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men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e form field that allows front desk staff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municate to each other regarding a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cific gue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ket C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d to track the accuracy of the gues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om r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uest Registration Menu Exampl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0" t="31139" r="0" b="0"/>
          <a:stretch/>
        </p:blipFill>
        <p:spPr>
          <a:xfrm>
            <a:off x="684360" y="1752480"/>
            <a:ext cx="7704000" cy="4340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7740720" y="613728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gure 8-3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uest Accounting Men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uest accounting menu will contain a limited amount of information relating to the guest’s reser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’s primary purpose is to document every financial transaction relating to the gu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time a charge is posted, a credit issues, or a payment made it will be reflected in this disp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ough the order and verbiage may differ, the following lists the information contained on the accounting men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uest Accounting Menu (Cont…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REQUIRED FIELD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MEANING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uest Nam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me of individual’s accou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rival D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e of check-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parture D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e of checko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om Numb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ual room assig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thod of Pay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sh, Credit, Direct Billing, Cheq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ervation Statu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sts the current rooms status of the room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erv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mainder of the guest accounting menu summarizes the financial transactions, each is issued a line number so the record is easy to foll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inal item of note is the record of the employee who made the 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Check-i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ection illustrates the check-in of a walk-in guest (that is, a guest with no prior reserv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alk-in rate is set by the Front Office Manager, who will notify front desk staff if the hotel finds itself in need of occupancy for on a certain n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echanics of checking in a walk-in guest are very similar to making an advanced reser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 the check-in process example on hand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Check-in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ce the reservation process is complete, the PMS may issue a registration c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gistration car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mmarises much of the information contained in the guest registration menu of the P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gistration card is viewed by the guest to confirm all details and by signing the card the creates a binding agreement between the hotel and the gu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gistration Card Examp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900000" y="1989000"/>
            <a:ext cx="7344000" cy="381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203640" y="2205000"/>
            <a:ext cx="288108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3276720" y="2276640"/>
            <a:ext cx="273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ice Hotel and Tower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23 Nice Avenue, Anywhere, USA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971640" y="2349360"/>
            <a:ext cx="21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om Number ______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877080" y="23493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rd # 001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116000" y="3141720"/>
            <a:ext cx="676908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rrival Date ___________ Departure Date __________ Payment ________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om Preference _____________ Rate ___________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gnature __________________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By signing the above, I hereby confirm all details contained herein are correct and agree to abide by hotel policies)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uest Name ______________________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________________________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dress _________________________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elephone ________________________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042920" y="4869000"/>
            <a:ext cx="15130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heck-in time is 3p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6588000" y="4869000"/>
            <a:ext cx="15130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heckout time is 12p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7667640" y="595008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gure 8-15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MS Hierarc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PMS contains specialized information and reporting capabilities for a specific rooms-division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ral of these menus lead the user to even more specialised information and reporting cap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ganisation of these menus is called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MS Hierarch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which starts with the most broad menu (Front Office) and narrows its scope as each menu gets more specif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tied to authority level and the “need to know” conce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MS Hierarchy Examp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Organization Chart 8"/>
          <p:cNvGrpSpPr/>
          <p:nvPr/>
        </p:nvGrpSpPr>
        <p:grpSpPr>
          <a:xfrm>
            <a:off x="611280" y="1752480"/>
            <a:ext cx="7992720" cy="4412880"/>
            <a:chOff x="611280" y="1752480"/>
            <a:chExt cx="7992720" cy="4412880"/>
          </a:xfrm>
        </p:grpSpPr>
        <p:cxnSp>
          <p:nvCxnSpPr>
            <p:cNvPr id="133" name="_s1028"/>
            <p:cNvCxnSpPr>
              <a:stCxn id="134" idx="1"/>
              <a:endCxn id="135" idx="2"/>
            </p:cNvCxnSpPr>
            <p:nvPr/>
          </p:nvCxnSpPr>
          <p:spPr>
            <a:xfrm rot="10800000">
              <a:off x="7270920" y="2599560"/>
              <a:ext cx="190800" cy="851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1029"/>
            <p:cNvCxnSpPr>
              <a:stCxn id="137" idx="1"/>
              <a:endCxn id="135" idx="2"/>
            </p:cNvCxnSpPr>
            <p:nvPr/>
          </p:nvCxnSpPr>
          <p:spPr>
            <a:xfrm rot="10800000">
              <a:off x="7270920" y="2599560"/>
              <a:ext cx="190800" cy="341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1030"/>
            <p:cNvCxnSpPr>
              <a:stCxn id="139" idx="1"/>
              <a:endCxn id="140" idx="2"/>
            </p:cNvCxnSpPr>
            <p:nvPr/>
          </p:nvCxnSpPr>
          <p:spPr>
            <a:xfrm rot="10800000">
              <a:off x="5749920" y="2599560"/>
              <a:ext cx="189360" cy="2377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1031"/>
            <p:cNvCxnSpPr>
              <a:stCxn id="142" idx="1"/>
              <a:endCxn id="140" idx="2"/>
            </p:cNvCxnSpPr>
            <p:nvPr/>
          </p:nvCxnSpPr>
          <p:spPr>
            <a:xfrm rot="10800000">
              <a:off x="5749920" y="2599560"/>
              <a:ext cx="189360" cy="1870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032"/>
            <p:cNvCxnSpPr>
              <a:stCxn id="144" idx="1"/>
              <a:endCxn id="140" idx="2"/>
            </p:cNvCxnSpPr>
            <p:nvPr/>
          </p:nvCxnSpPr>
          <p:spPr>
            <a:xfrm rot="10800000">
              <a:off x="5749920" y="2599560"/>
              <a:ext cx="189360" cy="136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1033"/>
            <p:cNvCxnSpPr>
              <a:stCxn id="146" idx="1"/>
              <a:endCxn id="140" idx="2"/>
            </p:cNvCxnSpPr>
            <p:nvPr/>
          </p:nvCxnSpPr>
          <p:spPr>
            <a:xfrm rot="10800000">
              <a:off x="5749920" y="2599560"/>
              <a:ext cx="189360" cy="851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1034"/>
            <p:cNvCxnSpPr>
              <a:stCxn id="148" idx="1"/>
              <a:endCxn id="140" idx="2"/>
            </p:cNvCxnSpPr>
            <p:nvPr/>
          </p:nvCxnSpPr>
          <p:spPr>
            <a:xfrm rot="10800000">
              <a:off x="5749920" y="2599560"/>
              <a:ext cx="189360" cy="341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1035"/>
            <p:cNvCxnSpPr>
              <a:stCxn id="150" idx="1"/>
              <a:endCxn id="151" idx="2"/>
            </p:cNvCxnSpPr>
            <p:nvPr/>
          </p:nvCxnSpPr>
          <p:spPr>
            <a:xfrm rot="10800000">
              <a:off x="4227120" y="2601000"/>
              <a:ext cx="188280" cy="23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1036"/>
            <p:cNvCxnSpPr>
              <a:stCxn id="153" idx="1"/>
              <a:endCxn id="151" idx="2"/>
            </p:cNvCxnSpPr>
            <p:nvPr/>
          </p:nvCxnSpPr>
          <p:spPr>
            <a:xfrm rot="10800000">
              <a:off x="4227120" y="2601000"/>
              <a:ext cx="188280" cy="1869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1037"/>
            <p:cNvCxnSpPr>
              <a:stCxn id="155" idx="1"/>
              <a:endCxn id="151" idx="2"/>
            </p:cNvCxnSpPr>
            <p:nvPr/>
          </p:nvCxnSpPr>
          <p:spPr>
            <a:xfrm rot="10800000">
              <a:off x="4227120" y="2601000"/>
              <a:ext cx="188280" cy="135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1038"/>
            <p:cNvCxnSpPr>
              <a:stCxn id="157" idx="1"/>
              <a:endCxn id="151" idx="2"/>
            </p:cNvCxnSpPr>
            <p:nvPr/>
          </p:nvCxnSpPr>
          <p:spPr>
            <a:xfrm rot="10800000">
              <a:off x="4227120" y="2601000"/>
              <a:ext cx="188280" cy="84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1039"/>
            <p:cNvCxnSpPr>
              <a:stCxn id="159" idx="1"/>
              <a:endCxn id="151" idx="2"/>
            </p:cNvCxnSpPr>
            <p:nvPr/>
          </p:nvCxnSpPr>
          <p:spPr>
            <a:xfrm rot="10800000">
              <a:off x="4227120" y="2601000"/>
              <a:ext cx="188280" cy="34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1040"/>
            <p:cNvCxnSpPr>
              <a:stCxn id="161" idx="1"/>
              <a:endCxn id="162" idx="2"/>
            </p:cNvCxnSpPr>
            <p:nvPr/>
          </p:nvCxnSpPr>
          <p:spPr>
            <a:xfrm rot="10800000">
              <a:off x="2702880" y="2601000"/>
              <a:ext cx="190800" cy="339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1041"/>
            <p:cNvCxnSpPr>
              <a:stCxn id="164" idx="1"/>
              <a:endCxn id="162" idx="2"/>
            </p:cNvCxnSpPr>
            <p:nvPr/>
          </p:nvCxnSpPr>
          <p:spPr>
            <a:xfrm rot="10800000">
              <a:off x="2702880" y="2601000"/>
              <a:ext cx="190800" cy="2886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42"/>
            <p:cNvCxnSpPr>
              <a:stCxn id="166" idx="1"/>
              <a:endCxn id="162" idx="2"/>
            </p:cNvCxnSpPr>
            <p:nvPr/>
          </p:nvCxnSpPr>
          <p:spPr>
            <a:xfrm rot="10800000">
              <a:off x="2702880" y="2601000"/>
              <a:ext cx="190800" cy="23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43"/>
            <p:cNvCxnSpPr>
              <a:stCxn id="168" idx="1"/>
              <a:endCxn id="162" idx="2"/>
            </p:cNvCxnSpPr>
            <p:nvPr/>
          </p:nvCxnSpPr>
          <p:spPr>
            <a:xfrm rot="10800000">
              <a:off x="2702880" y="2601000"/>
              <a:ext cx="190800" cy="1869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1044"/>
            <p:cNvCxnSpPr>
              <a:stCxn id="170" idx="1"/>
              <a:endCxn id="162" idx="2"/>
            </p:cNvCxnSpPr>
            <p:nvPr/>
          </p:nvCxnSpPr>
          <p:spPr>
            <a:xfrm rot="10800000">
              <a:off x="2702880" y="2601000"/>
              <a:ext cx="190800" cy="135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1045"/>
            <p:cNvCxnSpPr>
              <a:stCxn id="172" idx="1"/>
              <a:endCxn id="162" idx="2"/>
            </p:cNvCxnSpPr>
            <p:nvPr/>
          </p:nvCxnSpPr>
          <p:spPr>
            <a:xfrm rot="10800000">
              <a:off x="2702880" y="2601000"/>
              <a:ext cx="190800" cy="84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1046"/>
            <p:cNvCxnSpPr>
              <a:stCxn id="174" idx="1"/>
              <a:endCxn id="162" idx="2"/>
            </p:cNvCxnSpPr>
            <p:nvPr/>
          </p:nvCxnSpPr>
          <p:spPr>
            <a:xfrm rot="10800000">
              <a:off x="2702880" y="2601000"/>
              <a:ext cx="190800" cy="34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1047"/>
            <p:cNvCxnSpPr>
              <a:stCxn id="176" idx="1"/>
              <a:endCxn id="177" idx="2"/>
            </p:cNvCxnSpPr>
            <p:nvPr/>
          </p:nvCxnSpPr>
          <p:spPr>
            <a:xfrm rot="10800000">
              <a:off x="1182600" y="2601000"/>
              <a:ext cx="189720" cy="339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1048"/>
            <p:cNvCxnSpPr>
              <a:stCxn id="179" idx="1"/>
              <a:endCxn id="177" idx="2"/>
            </p:cNvCxnSpPr>
            <p:nvPr/>
          </p:nvCxnSpPr>
          <p:spPr>
            <a:xfrm rot="10800000">
              <a:off x="1182600" y="2601000"/>
              <a:ext cx="189720" cy="288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049"/>
            <p:cNvCxnSpPr>
              <a:stCxn id="181" idx="1"/>
              <a:endCxn id="177" idx="2"/>
            </p:cNvCxnSpPr>
            <p:nvPr/>
          </p:nvCxnSpPr>
          <p:spPr>
            <a:xfrm rot="10800000">
              <a:off x="1182600" y="2601000"/>
              <a:ext cx="189720" cy="23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050"/>
            <p:cNvCxnSpPr>
              <a:stCxn id="183" idx="1"/>
              <a:endCxn id="177" idx="2"/>
            </p:cNvCxnSpPr>
            <p:nvPr/>
          </p:nvCxnSpPr>
          <p:spPr>
            <a:xfrm rot="10800000">
              <a:off x="1182600" y="2601000"/>
              <a:ext cx="189720" cy="1869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1051"/>
            <p:cNvCxnSpPr>
              <a:stCxn id="185" idx="1"/>
              <a:endCxn id="177" idx="2"/>
            </p:cNvCxnSpPr>
            <p:nvPr/>
          </p:nvCxnSpPr>
          <p:spPr>
            <a:xfrm rot="10800000">
              <a:off x="1182600" y="2601000"/>
              <a:ext cx="189720" cy="135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1052"/>
            <p:cNvCxnSpPr>
              <a:stCxn id="187" idx="1"/>
              <a:endCxn id="177" idx="2"/>
            </p:cNvCxnSpPr>
            <p:nvPr/>
          </p:nvCxnSpPr>
          <p:spPr>
            <a:xfrm rot="10800000">
              <a:off x="1182600" y="2601000"/>
              <a:ext cx="189720" cy="84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1053"/>
            <p:cNvCxnSpPr>
              <a:stCxn id="189" idx="1"/>
              <a:endCxn id="177" idx="2"/>
            </p:cNvCxnSpPr>
            <p:nvPr/>
          </p:nvCxnSpPr>
          <p:spPr>
            <a:xfrm rot="10800000">
              <a:off x="1182600" y="2601000"/>
              <a:ext cx="189720" cy="34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1054"/>
            <p:cNvCxnSpPr>
              <a:stCxn id="135" idx="0"/>
              <a:endCxn id="191" idx="2"/>
            </p:cNvCxnSpPr>
            <p:nvPr/>
          </p:nvCxnSpPr>
          <p:spPr>
            <a:xfrm flipV="1" rot="16200000">
              <a:off x="5664240" y="654120"/>
              <a:ext cx="170280" cy="3044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2" name="_s1055"/>
            <p:cNvCxnSpPr>
              <a:stCxn id="140" idx="0"/>
              <a:endCxn id="191" idx="2"/>
            </p:cNvCxnSpPr>
            <p:nvPr/>
          </p:nvCxnSpPr>
          <p:spPr>
            <a:xfrm flipV="1" rot="16200000">
              <a:off x="4903560" y="1414800"/>
              <a:ext cx="170280" cy="1523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1056"/>
            <p:cNvCxnSpPr>
              <a:stCxn id="151" idx="0"/>
              <a:endCxn id="191" idx="2"/>
            </p:cNvCxnSpPr>
            <p:nvPr/>
          </p:nvCxnSpPr>
          <p:spPr>
            <a:xfrm flipV="1">
              <a:off x="4227480" y="2091240"/>
              <a:ext cx="1800" cy="17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1057"/>
            <p:cNvCxnSpPr>
              <a:stCxn id="162" idx="0"/>
              <a:endCxn id="191" idx="2"/>
            </p:cNvCxnSpPr>
            <p:nvPr/>
          </p:nvCxnSpPr>
          <p:spPr>
            <a:xfrm flipH="1" flipV="1" rot="5400000">
              <a:off x="3380760" y="1414080"/>
              <a:ext cx="170280" cy="1524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1058"/>
            <p:cNvCxnSpPr>
              <a:stCxn id="177" idx="0"/>
              <a:endCxn id="191" idx="2"/>
            </p:cNvCxnSpPr>
            <p:nvPr/>
          </p:nvCxnSpPr>
          <p:spPr>
            <a:xfrm flipH="1" flipV="1" rot="5400000">
              <a:off x="2620440" y="654120"/>
              <a:ext cx="170280" cy="3044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1" name="_s1059"/>
            <p:cNvSpPr/>
            <p:nvPr/>
          </p:nvSpPr>
          <p:spPr>
            <a:xfrm>
              <a:off x="3655080" y="1752480"/>
              <a:ext cx="1141920" cy="339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Front Office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Menu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_s1060"/>
            <p:cNvSpPr/>
            <p:nvPr/>
          </p:nvSpPr>
          <p:spPr>
            <a:xfrm>
              <a:off x="611280" y="2261880"/>
              <a:ext cx="1141920" cy="339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eservations 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Menu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_s1061"/>
            <p:cNvSpPr/>
            <p:nvPr/>
          </p:nvSpPr>
          <p:spPr>
            <a:xfrm>
              <a:off x="2132280" y="2261880"/>
              <a:ext cx="1141920" cy="339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egistration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Menu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_s1062"/>
            <p:cNvSpPr/>
            <p:nvPr/>
          </p:nvSpPr>
          <p:spPr>
            <a:xfrm>
              <a:off x="3655080" y="2261880"/>
              <a:ext cx="1141920" cy="339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Night Audit 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Menu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_s1063"/>
            <p:cNvSpPr/>
            <p:nvPr/>
          </p:nvSpPr>
          <p:spPr>
            <a:xfrm>
              <a:off x="5179320" y="2261880"/>
              <a:ext cx="114048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Housekeeping 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Menu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_s1064"/>
            <p:cNvSpPr/>
            <p:nvPr/>
          </p:nvSpPr>
          <p:spPr>
            <a:xfrm>
              <a:off x="6700680" y="2261880"/>
              <a:ext cx="114192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Uniform Services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Menu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_s1065"/>
            <p:cNvSpPr/>
            <p:nvPr/>
          </p:nvSpPr>
          <p:spPr>
            <a:xfrm>
              <a:off x="1372320" y="2771640"/>
              <a:ext cx="114048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Make a 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eservation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_s1066"/>
            <p:cNvSpPr/>
            <p:nvPr/>
          </p:nvSpPr>
          <p:spPr>
            <a:xfrm>
              <a:off x="1372320" y="3281040"/>
              <a:ext cx="114048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Post Advance 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Deposit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_s1067"/>
            <p:cNvSpPr/>
            <p:nvPr/>
          </p:nvSpPr>
          <p:spPr>
            <a:xfrm>
              <a:off x="1372320" y="3790800"/>
              <a:ext cx="1140480" cy="3373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roup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Bookings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_s1068"/>
            <p:cNvSpPr/>
            <p:nvPr/>
          </p:nvSpPr>
          <p:spPr>
            <a:xfrm>
              <a:off x="1372320" y="4300560"/>
              <a:ext cx="114048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Travel Agent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Commissions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_s1069"/>
            <p:cNvSpPr/>
            <p:nvPr/>
          </p:nvSpPr>
          <p:spPr>
            <a:xfrm>
              <a:off x="1372320" y="4808880"/>
              <a:ext cx="114048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oom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Forecasts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_s1070"/>
            <p:cNvSpPr/>
            <p:nvPr/>
          </p:nvSpPr>
          <p:spPr>
            <a:xfrm>
              <a:off x="1372320" y="5317200"/>
              <a:ext cx="1140480" cy="3373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eservations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eport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_s1071"/>
            <p:cNvSpPr/>
            <p:nvPr/>
          </p:nvSpPr>
          <p:spPr>
            <a:xfrm>
              <a:off x="1372320" y="5825880"/>
              <a:ext cx="1140480" cy="335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uest Message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Centre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_s1072"/>
            <p:cNvSpPr/>
            <p:nvPr/>
          </p:nvSpPr>
          <p:spPr>
            <a:xfrm>
              <a:off x="2893680" y="2771640"/>
              <a:ext cx="114084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uest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egistration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_s1073"/>
            <p:cNvSpPr/>
            <p:nvPr/>
          </p:nvSpPr>
          <p:spPr>
            <a:xfrm>
              <a:off x="2893680" y="3281040"/>
              <a:ext cx="114192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uest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Accounting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_s1074"/>
            <p:cNvSpPr/>
            <p:nvPr/>
          </p:nvSpPr>
          <p:spPr>
            <a:xfrm>
              <a:off x="2893680" y="3790800"/>
              <a:ext cx="114192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Print Daily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eg. Cards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_s1075"/>
            <p:cNvSpPr/>
            <p:nvPr/>
          </p:nvSpPr>
          <p:spPr>
            <a:xfrm>
              <a:off x="2893680" y="4300560"/>
              <a:ext cx="114192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outing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_s1076"/>
            <p:cNvSpPr/>
            <p:nvPr/>
          </p:nvSpPr>
          <p:spPr>
            <a:xfrm>
              <a:off x="2893680" y="4808880"/>
              <a:ext cx="114192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oom 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Blocking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_s1077"/>
            <p:cNvSpPr/>
            <p:nvPr/>
          </p:nvSpPr>
          <p:spPr>
            <a:xfrm>
              <a:off x="2893680" y="5317200"/>
              <a:ext cx="114192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uest Message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Centre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_s1078"/>
            <p:cNvSpPr/>
            <p:nvPr/>
          </p:nvSpPr>
          <p:spPr>
            <a:xfrm>
              <a:off x="2893680" y="5825880"/>
              <a:ext cx="1141920" cy="339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Front Desk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_s1079"/>
            <p:cNvSpPr/>
            <p:nvPr/>
          </p:nvSpPr>
          <p:spPr>
            <a:xfrm>
              <a:off x="4416480" y="2771640"/>
              <a:ext cx="1141920" cy="339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Trial Audit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_s1080"/>
            <p:cNvSpPr/>
            <p:nvPr/>
          </p:nvSpPr>
          <p:spPr>
            <a:xfrm>
              <a:off x="4416480" y="3281040"/>
              <a:ext cx="1140840" cy="339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Market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Segmentation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_s1081"/>
            <p:cNvSpPr/>
            <p:nvPr/>
          </p:nvSpPr>
          <p:spPr>
            <a:xfrm>
              <a:off x="4416480" y="3790800"/>
              <a:ext cx="1140840" cy="339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POS Menu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_s1082"/>
            <p:cNvSpPr/>
            <p:nvPr/>
          </p:nvSpPr>
          <p:spPr>
            <a:xfrm>
              <a:off x="4416480" y="4300560"/>
              <a:ext cx="114084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oom Status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Update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_s1083"/>
            <p:cNvSpPr/>
            <p:nvPr/>
          </p:nvSpPr>
          <p:spPr>
            <a:xfrm>
              <a:off x="4416480" y="4808880"/>
              <a:ext cx="114084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Final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_s1084"/>
            <p:cNvSpPr/>
            <p:nvPr/>
          </p:nvSpPr>
          <p:spPr>
            <a:xfrm>
              <a:off x="5939280" y="2771640"/>
              <a:ext cx="114192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oom Status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Update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_s1085"/>
            <p:cNvSpPr/>
            <p:nvPr/>
          </p:nvSpPr>
          <p:spPr>
            <a:xfrm>
              <a:off x="5939280" y="3281040"/>
              <a:ext cx="114192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uest 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egistration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_s1086"/>
            <p:cNvSpPr/>
            <p:nvPr/>
          </p:nvSpPr>
          <p:spPr>
            <a:xfrm>
              <a:off x="5939280" y="3790800"/>
              <a:ext cx="114192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oom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Blocking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_s1087"/>
            <p:cNvSpPr/>
            <p:nvPr/>
          </p:nvSpPr>
          <p:spPr>
            <a:xfrm>
              <a:off x="5939280" y="4300560"/>
              <a:ext cx="114192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uest Message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Centre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_s1088"/>
            <p:cNvSpPr/>
            <p:nvPr/>
          </p:nvSpPr>
          <p:spPr>
            <a:xfrm>
              <a:off x="5939280" y="4808880"/>
              <a:ext cx="114192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Housekeeping 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_s1089"/>
            <p:cNvSpPr/>
            <p:nvPr/>
          </p:nvSpPr>
          <p:spPr>
            <a:xfrm>
              <a:off x="7462080" y="2771640"/>
              <a:ext cx="114192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uest 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Locator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_s1090"/>
            <p:cNvSpPr/>
            <p:nvPr/>
          </p:nvSpPr>
          <p:spPr>
            <a:xfrm>
              <a:off x="7462080" y="3281040"/>
              <a:ext cx="114192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uest Message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Centre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6" name="Text Box 80"/>
          <p:cNvSpPr/>
          <p:nvPr/>
        </p:nvSpPr>
        <p:spPr>
          <a:xfrm>
            <a:off x="7667640" y="595008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gure 8-16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tent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20412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ecting the Property Management System (PM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est Accou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heck-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MS Hierarch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MS Systems Interf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MS System Interf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MS must be able to communicate with other hotel computer systems on order to maximise efficienc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rvations and POS (point of sale) systems may differ from the PMS so the information needs to be passes along, so it is passed along to the guest account immediate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MS can also interface with a sales and catering management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MS System Interface Examp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6920" y="2276640"/>
            <a:ext cx="17290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taurant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187280" y="2708280"/>
            <a:ext cx="17290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oom Servic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932360" y="1773360"/>
            <a:ext cx="172872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ne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ervatio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2987640" y="1773360"/>
            <a:ext cx="172872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entral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ervatio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4067280" y="2637000"/>
            <a:ext cx="17287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ervatio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6588000" y="4699080"/>
            <a:ext cx="17290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BX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6588000" y="3500280"/>
            <a:ext cx="1729080" cy="524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ales &amp;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terin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826920" y="3787920"/>
            <a:ext cx="1729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619280" y="4770360"/>
            <a:ext cx="17287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hop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1116000" y="5275440"/>
            <a:ext cx="17287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olf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684360" y="5734080"/>
            <a:ext cx="17287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pa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1619280" y="3141720"/>
            <a:ext cx="17287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ung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Oval 16"/>
          <p:cNvSpPr/>
          <p:nvPr/>
        </p:nvSpPr>
        <p:spPr>
          <a:xfrm>
            <a:off x="3851280" y="3645000"/>
            <a:ext cx="208908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3995640" y="44226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M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971640" y="2565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1403280" y="2997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1692360" y="342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2556000" y="3933720"/>
            <a:ext cx="1295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Line 22"/>
          <p:cNvSpPr/>
          <p:nvPr/>
        </p:nvSpPr>
        <p:spPr>
          <a:xfrm flipV="1">
            <a:off x="971640" y="41493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23"/>
          <p:cNvSpPr/>
          <p:nvPr/>
        </p:nvSpPr>
        <p:spPr>
          <a:xfrm flipV="1">
            <a:off x="1258920" y="4149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24"/>
          <p:cNvSpPr/>
          <p:nvPr/>
        </p:nvSpPr>
        <p:spPr>
          <a:xfrm flipV="1">
            <a:off x="1692360" y="4149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421164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26"/>
          <p:cNvSpPr/>
          <p:nvPr/>
        </p:nvSpPr>
        <p:spPr>
          <a:xfrm>
            <a:off x="507672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4716360" y="29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28"/>
          <p:cNvSpPr/>
          <p:nvPr/>
        </p:nvSpPr>
        <p:spPr>
          <a:xfrm flipH="1">
            <a:off x="5796000" y="3789360"/>
            <a:ext cx="792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29"/>
          <p:cNvSpPr/>
          <p:nvPr/>
        </p:nvSpPr>
        <p:spPr>
          <a:xfrm flipH="1" flipV="1">
            <a:off x="5940000" y="4724280"/>
            <a:ext cx="647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30"/>
          <p:cNvSpPr/>
          <p:nvPr/>
        </p:nvSpPr>
        <p:spPr>
          <a:xfrm>
            <a:off x="7740720" y="59500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gure 8-17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tels use a variety of computer systems to manage the operations of their front office. Called a property management system (PMS), these computer systems manage a variety of tasks. A hotel PMS manages a guest’s check-in and checkout, cash transactions at the front desk, outlet/ancillary transactions, reservations, housekeeping, night audit and other tasks. The PMS impacts the rooms division before, during and after the arrival chron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lecting the P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irst step in deciding on the right PMS is to conduct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eds analy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which is a process where hotel managers and senior managers determine the required scope of their PMS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ctors such as the hotel size, product type, location and target market affect the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all lodging ownership associations allow for independent PMS procurement, most franchise and management contract hotels use the PMS chosen by their ch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lecting the PM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ce the needs are determined the appropriate software should be secured, PMS software is a computer program designed on a particular programming plat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tels that are given a mandated PMS by their chain typically receive a system with many more capabilities than nee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ftware often dictated the hardware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lecting the PM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nd users of the chosen configuration are the hotel employ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reas where an employee or manager can access the PMS are call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MS workst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each workstation will include the software, hardware and computer mon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ending on the needs of the end user, other applications such as email, word processing, Internet access etc, might be available at a particular works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ize and look of the PMS system must be appropri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lecting the PM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tel PMS stations are generally linked to each other in some type of network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MS network (also called a LAN – local area network) allows each station to communicate with the other – this is vital so that every PMS station will know the status of every room and every gu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MS’s are more than communication tools, they can also be thought of as extended databases, as they store information and preferences, and capture demographics and other information on each gu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uest Account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PMS’s are organised based on a series of men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in the PMS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est accou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ks all the data that pertains to an individual gu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est registration menu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ains all the pertinent information obtained from the initial reservation and during the st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est accounting menu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 be used to track all the credit/debit transactions related to the guest’s sta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uest Registration Men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109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ate contained in the guest registration menu helps to track all the information pertinent to the guest’s st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PMS will contain this information in some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ough the order and the verbiage may differ, the following lists the information contained within the registration men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6:28:41Z</dcterms:created>
  <dc:creator>Chris Drzewucki</dc:creator>
  <dc:description/>
  <dc:language>en-US</dc:language>
  <cp:lastModifiedBy>robert</cp:lastModifiedBy>
  <dcterms:modified xsi:type="dcterms:W3CDTF">2011-04-12T16:44:58Z</dcterms:modified>
  <cp:revision>122</cp:revision>
  <dc:subject/>
  <dc:title>FRONT OFFICE OPERATIONS MANAGEMENT</dc:title>
</cp:coreProperties>
</file>